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9.wmf" ContentType="image/x-wmf"/>
  <Override PartName="/ppt/media/image9.wmf" ContentType="image/x-wmf"/>
  <Override PartName="/ppt/media/image5.wmf" ContentType="image/x-wmf"/>
  <Override PartName="/ppt/media/image17.wmf" ContentType="image/x-wmf"/>
  <Override PartName="/ppt/media/image54.wmf" ContentType="image/x-wmf"/>
  <Override PartName="/ppt/media/image53.wmf" ContentType="image/x-wmf"/>
  <Override PartName="/ppt/media/image3.wmf" ContentType="image/x-wmf"/>
  <Override PartName="/ppt/media/image15.wmf" ContentType="image/x-wmf"/>
  <Override PartName="/ppt/media/image52.wmf" ContentType="image/x-wmf"/>
  <Override PartName="/ppt/media/image49.png" ContentType="image/png"/>
  <Override PartName="/ppt/media/image50.wmf" ContentType="image/x-wmf"/>
  <Override PartName="/ppt/media/image2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19.wmf" ContentType="image/x-wmf"/>
  <Override PartName="/ppt/media/image21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51.wmf" ContentType="image/x-wmf"/>
  <Override PartName="/ppt/media/EXPLODE.WAV" ContentType="audio/x-wav"/>
  <Override PartName="/ppt/media/image34.wmf" ContentType="image/x-wmf"/>
  <Override PartName="/ppt/media/driveby.wav" ContentType="audio/x-wav"/>
  <Override PartName="/ppt/media/image20.wmf" ContentType="image/x-wmf"/>
  <Override PartName="/ppt/media/CHIMES.WAV" ContentType="audio/x-wav"/>
  <Override PartName="/ppt/media/image28.wmf" ContentType="image/x-wmf"/>
  <Override PartName="/ppt/media/image18.wmf" ContentType="image/x-wmf"/>
  <Override PartName="/ppt/media/image6.wmf" ContentType="image/x-wmf"/>
  <Override PartName="/ppt/media/yabba-dabba-do.wav" ContentType="audio/x-wav"/>
  <Override PartName="/ppt/media/image36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carbrake.wav" ContentType="audio/x-wav"/>
  <Override PartName="/ppt/media/image45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48.wmf" ContentType="image/x-wmf"/>
  <Override PartName="/ppt/media/gunshot.wav" ContentType="audio/x-wav"/>
  <Override PartName="/ppt/media/image25.wmf" ContentType="image/x-wmf"/>
  <Override PartName="/ppt/media/image23.wmf" ContentType="image/x-wmf"/>
  <Override PartName="/ppt/media/image12.wmf" ContentType="image/x-wmf"/>
  <Override PartName="/ppt/media/hzipup01.wav" ContentType="audio/x-wav"/>
  <Override PartName="/ppt/media/image24.wmf" ContentType="image/x-wmf"/>
  <Override PartName="/ppt/media/image26.wmf" ContentType="image/x-wmf"/>
  <Override PartName="/ppt/media/image27.wmf" ContentType="image/x-wmf"/>
  <Override PartName="/ppt/media/projctor.wav" ContentType="audio/x-wav"/>
  <Override PartName="/ppt/media/image30.wmf" ContentType="image/x-wmf"/>
  <Override PartName="/ppt/media/image40.wmf" ContentType="image/x-wmf"/>
  <Override PartName="/ppt/media/camera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165-157C-41AF-B8CA-DF2C4FC5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3F8-8D43-4628-9ABA-E7641AAD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F8C-EB84-42CD-8A95-9F77B15D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DCD-536F-4382-9CFC-3A215B3B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E46-6107-41FA-BA60-198271AE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DB0-62F4-41C5-86B1-81737322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63E-A10B-4A1F-87FB-E03AD0CA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4B6-CB70-4266-9D26-5784065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27B-9A99-44D3-8FB8-44C1B6BF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27C-D21E-4C0A-A9D0-6BD586AC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ED6-5102-4F99-BF05-A4F1282B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20E-ADF5-4045-89F2-4672E5D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3D44-0D7A-4E95-AA8F-B629E2844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driveby.wav"/><Relationship Id="rId22" Type="http://schemas.openxmlformats.org/officeDocument/2006/relationships/audio" Target="../media/driveby.wav"/><Relationship Id="rId23" Type="http://schemas.openxmlformats.org/officeDocument/2006/relationships/audio" Target="../media/EXPLODE.WAV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EXPLODE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EXPLODE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EXPLODE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audio" Target="../media/CHIMES.WAV"/><Relationship Id="rId34" Type="http://schemas.openxmlformats.org/officeDocument/2006/relationships/audio" Target="../media/carbrake.wav"/><Relationship Id="rId35" Type="http://schemas.openxmlformats.org/officeDocument/2006/relationships/audio" Target="../media/projctor.wav"/><Relationship Id="rId36" Type="http://schemas.openxmlformats.org/officeDocument/2006/relationships/audio" Target="../media/camera.wav"/><Relationship Id="rId37" Type="http://schemas.openxmlformats.org/officeDocument/2006/relationships/audio" Target="../media/camera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hzipup01.wav"/><Relationship Id="rId44" Type="http://schemas.openxmlformats.org/officeDocument/2006/relationships/audio" Target="../media/gunshot.wav"/><Relationship Id="rId45" Type="http://schemas.openxmlformats.org/officeDocument/2006/relationships/audio" Target="../media/hzipup01.wav"/><Relationship Id="rId46" Type="http://schemas.openxmlformats.org/officeDocument/2006/relationships/audio" Target="../media/gunshot.wav"/><Relationship Id="rId47" Type="http://schemas.openxmlformats.org/officeDocument/2006/relationships/audio" Target="../media/hzipup01.wav"/><Relationship Id="rId48" Type="http://schemas.openxmlformats.org/officeDocument/2006/relationships/audio" Target="../media/gunshot.wav"/><Relationship Id="rId49" Type="http://schemas.openxmlformats.org/officeDocument/2006/relationships/audio" Target="../media/hzipup01.wav"/><Relationship Id="rId50" Type="http://schemas.openxmlformats.org/officeDocument/2006/relationships/audio" Target="../media/gunshot.wav"/><Relationship Id="rId51" Type="http://schemas.openxmlformats.org/officeDocument/2006/relationships/audio" Target="../media/hzipup01.wav"/><Relationship Id="rId52" Type="http://schemas.openxmlformats.org/officeDocument/2006/relationships/audio" Target="../media/gunshot.wav"/><Relationship Id="rId53" Type="http://schemas.openxmlformats.org/officeDocument/2006/relationships/audio" Target="../media/gunshot.wav"/><Relationship Id="rId54" Type="http://schemas.openxmlformats.org/officeDocument/2006/relationships/audio" Target="../media/gunshot.wav"/><Relationship Id="rId55" Type="http://schemas.openxmlformats.org/officeDocument/2006/relationships/audio" Target="../media/gunshot.wav"/><Relationship Id="rId56" Type="http://schemas.openxmlformats.org/officeDocument/2006/relationships/audio" Target="../media/gunshot.wav"/><Relationship Id="rId57" Type="http://schemas.openxmlformats.org/officeDocument/2006/relationships/audio" Target="../media/gunshot.wav"/><Relationship Id="rId58" Type="http://schemas.openxmlformats.org/officeDocument/2006/relationships/audio" Target="../media/yabba-dabba-do.wav"/><Relationship Id="rId5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5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9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6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7.wmf"/><Relationship Id="rId53" Type="http://schemas.openxmlformats.org/officeDocument/2006/relationships/audio" Target="../media/projcto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driveby.wav"/><Relationship Id="rId57" Type="http://schemas.openxmlformats.org/officeDocument/2006/relationships/audio" Target="../media/EXPLODE.WAV"/><Relationship Id="rId58" Type="http://schemas.openxmlformats.org/officeDocument/2006/relationships/audio" Target="../media/EXPLODE.WAV"/><Relationship Id="rId59" Type="http://schemas.openxmlformats.org/officeDocument/2006/relationships/audio" Target="../media/driveby.wav"/><Relationship Id="rId60" Type="http://schemas.openxmlformats.org/officeDocument/2006/relationships/audio" Target="../media/LASER.WAV"/><Relationship Id="rId61" Type="http://schemas.openxmlformats.org/officeDocument/2006/relationships/audio" Target="../media/driveby.wav"/><Relationship Id="rId62" Type="http://schemas.openxmlformats.org/officeDocument/2006/relationships/audio" Target="../media/LASER.WAV"/><Relationship Id="rId63" Type="http://schemas.openxmlformats.org/officeDocument/2006/relationships/audio" Target="../media/driveby.wav"/><Relationship Id="rId64" Type="http://schemas.openxmlformats.org/officeDocument/2006/relationships/audio" Target="../media/LASER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audio" Target="../media/EXPLODE.WAV"/><Relationship Id="rId68" Type="http://schemas.openxmlformats.org/officeDocument/2006/relationships/audio" Target="../media/camera.wav"/><Relationship Id="rId69" Type="http://schemas.openxmlformats.org/officeDocument/2006/relationships/audio" Target="../media/camera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LASER.WAV"/><Relationship Id="rId75" Type="http://schemas.openxmlformats.org/officeDocument/2006/relationships/audio" Target="../media/hzipup01.wav"/><Relationship Id="rId76" Type="http://schemas.openxmlformats.org/officeDocument/2006/relationships/audio" Target="../media/gunshot.wav"/><Relationship Id="rId77" Type="http://schemas.openxmlformats.org/officeDocument/2006/relationships/audio" Target="../media/hzipup01.wav"/><Relationship Id="rId78" Type="http://schemas.openxmlformats.org/officeDocument/2006/relationships/audio" Target="../media/gunshot.wav"/><Relationship Id="rId79" Type="http://schemas.openxmlformats.org/officeDocument/2006/relationships/audio" Target="../media/hzipup01.wav"/><Relationship Id="rId80" Type="http://schemas.openxmlformats.org/officeDocument/2006/relationships/audio" Target="../media/gunshot.wav"/><Relationship Id="rId81" Type="http://schemas.openxmlformats.org/officeDocument/2006/relationships/audio" Target="../media/hzipup01.wav"/><Relationship Id="rId82" Type="http://schemas.openxmlformats.org/officeDocument/2006/relationships/audio" Target="../media/gunshot.wav"/><Relationship Id="rId83" Type="http://schemas.openxmlformats.org/officeDocument/2006/relationships/audio" Target="../media/hzipup01.wav"/><Relationship Id="rId84" Type="http://schemas.openxmlformats.org/officeDocument/2006/relationships/audio" Target="../media/gunshot.wav"/><Relationship Id="rId85" Type="http://schemas.openxmlformats.org/officeDocument/2006/relationships/audio" Target="../media/gunshot.wav"/><Relationship Id="rId86" Type="http://schemas.openxmlformats.org/officeDocument/2006/relationships/audio" Target="../media/gunshot.wav"/><Relationship Id="rId87" Type="http://schemas.openxmlformats.org/officeDocument/2006/relationships/audio" Target="../media/gunshot.wav"/><Relationship Id="rId88" Type="http://schemas.openxmlformats.org/officeDocument/2006/relationships/audio" Target="../media/gunshot.wav"/><Relationship Id="rId89" Type="http://schemas.openxmlformats.org/officeDocument/2006/relationships/audio" Target="../media/gunshot.wav"/><Relationship Id="rId90" Type="http://schemas.openxmlformats.org/officeDocument/2006/relationships/audio" Target="../media/yabba-dabba-do.wav"/><Relationship Id="rId9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7.wmf"/><Relationship Id="rId37" Type="http://schemas.openxmlformats.org/officeDocument/2006/relationships/audio" Target="../media/projctor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amera.wav"/><Relationship Id="rId42" Type="http://schemas.openxmlformats.org/officeDocument/2006/relationships/audio" Target="../media/camera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hzipup01.wav"/><Relationship Id="rId49" Type="http://schemas.openxmlformats.org/officeDocument/2006/relationships/audio" Target="../media/gunshot.wav"/><Relationship Id="rId50" Type="http://schemas.openxmlformats.org/officeDocument/2006/relationships/audio" Target="../media/hzipup01.wav"/><Relationship Id="rId51" Type="http://schemas.openxmlformats.org/officeDocument/2006/relationships/audio" Target="../media/gunshot.wav"/><Relationship Id="rId52" Type="http://schemas.openxmlformats.org/officeDocument/2006/relationships/audio" Target="../media/hzipup01.wav"/><Relationship Id="rId53" Type="http://schemas.openxmlformats.org/officeDocument/2006/relationships/audio" Target="../media/gunshot.wav"/><Relationship Id="rId54" Type="http://schemas.openxmlformats.org/officeDocument/2006/relationships/audio" Target="../media/hzipup01.wav"/><Relationship Id="rId55" Type="http://schemas.openxmlformats.org/officeDocument/2006/relationships/audio" Target="../media/gunshot.wav"/><Relationship Id="rId56" Type="http://schemas.openxmlformats.org/officeDocument/2006/relationships/audio" Target="../media/hzipup01.wav"/><Relationship Id="rId57" Type="http://schemas.openxmlformats.org/officeDocument/2006/relationships/audio" Target="../media/gunshot.wav"/><Relationship Id="rId58" Type="http://schemas.openxmlformats.org/officeDocument/2006/relationships/audio" Target="../media/gunshot.wav"/><Relationship Id="rId59" Type="http://schemas.openxmlformats.org/officeDocument/2006/relationships/audio" Target="../media/gunshot.wav"/><Relationship Id="rId60" Type="http://schemas.openxmlformats.org/officeDocument/2006/relationships/audio" Target="../media/gunshot.wav"/><Relationship Id="rId61" Type="http://schemas.openxmlformats.org/officeDocument/2006/relationships/audio" Target="../media/gunshot.wav"/><Relationship Id="rId62" Type="http://schemas.openxmlformats.org/officeDocument/2006/relationships/audio" Target="../media/gunshot.wav"/><Relationship Id="rId63" Type="http://schemas.openxmlformats.org/officeDocument/2006/relationships/audio" Target="../media/yabba-dabba-do.wav"/><Relationship Id="rId6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image" Target="../media/image49.png"/><Relationship Id="rId24" Type="http://schemas.openxmlformats.org/officeDocument/2006/relationships/image" Target="../media/image49.png"/><Relationship Id="rId25" Type="http://schemas.openxmlformats.org/officeDocument/2006/relationships/image" Target="../media/image49.png"/><Relationship Id="rId26" Type="http://schemas.openxmlformats.org/officeDocument/2006/relationships/image" Target="../media/image49.png"/><Relationship Id="rId27" Type="http://schemas.openxmlformats.org/officeDocument/2006/relationships/audio" Target="../media/projctor.wav"/><Relationship Id="rId28" Type="http://schemas.openxmlformats.org/officeDocument/2006/relationships/audio" Target="../media/CHIMES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gunshot.wav"/><Relationship Id="rId45" Type="http://schemas.openxmlformats.org/officeDocument/2006/relationships/audio" Target="../media/gunshot.wav"/><Relationship Id="rId46" Type="http://schemas.openxmlformats.org/officeDocument/2006/relationships/audio" Target="../media/driveby.wav"/><Relationship Id="rId47" Type="http://schemas.openxmlformats.org/officeDocument/2006/relationships/audio" Target="../media/EXPLODE.WAV"/><Relationship Id="rId4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image" Target="../media/image49.png"/><Relationship Id="rId24" Type="http://schemas.openxmlformats.org/officeDocument/2006/relationships/image" Target="../media/image49.png"/><Relationship Id="rId25" Type="http://schemas.openxmlformats.org/officeDocument/2006/relationships/image" Target="../media/image49.png"/><Relationship Id="rId26" Type="http://schemas.openxmlformats.org/officeDocument/2006/relationships/image" Target="../media/image49.png"/><Relationship Id="rId27" Type="http://schemas.openxmlformats.org/officeDocument/2006/relationships/audio" Target="../media/projctor.wav"/><Relationship Id="rId28" Type="http://schemas.openxmlformats.org/officeDocument/2006/relationships/audio" Target="../media/CHIMES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gunshot.wav"/><Relationship Id="rId37" Type="http://schemas.openxmlformats.org/officeDocument/2006/relationships/audio" Target="../media/gunshot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gunshot.wav"/><Relationship Id="rId41" Type="http://schemas.openxmlformats.org/officeDocument/2006/relationships/audio" Target="../media/gunshot.wav"/><Relationship Id="rId42" Type="http://schemas.openxmlformats.org/officeDocument/2006/relationships/audio" Target="../media/gunshot.wav"/><Relationship Id="rId43" Type="http://schemas.openxmlformats.org/officeDocument/2006/relationships/audio" Target="../media/gunshot.wav"/><Relationship Id="rId44" Type="http://schemas.openxmlformats.org/officeDocument/2006/relationships/audio" Target="../media/gunshot.wav"/><Relationship Id="rId45" Type="http://schemas.openxmlformats.org/officeDocument/2006/relationships/audio" Target="../media/gunshot.wav"/><Relationship Id="rId46" Type="http://schemas.openxmlformats.org/officeDocument/2006/relationships/audio" Target="../media/driveby.wav"/><Relationship Id="rId47" Type="http://schemas.openxmlformats.org/officeDocument/2006/relationships/audio" Target="../media/EXPLODE.WAV"/><Relationship Id="rId4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ying Solutions of a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0666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cide whether the given ordered pair is a solution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80880" y="1981080"/>
                <a:ext cx="58039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30160" y="2743200"/>
                <a:ext cx="45021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6" name=""/>
          <p:cNvGraphicFramePr/>
          <p:nvPr/>
        </p:nvGraphicFramePr>
        <p:xfrm>
          <a:off x="1674720" y="2819520"/>
          <a:ext cx="7477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4720" y="2819520"/>
                    <a:ext cx="747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581280" y="2819520"/>
          <a:ext cx="3970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819520"/>
                    <a:ext cx="3970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971800" y="3581280"/>
          <a:ext cx="73836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581280"/>
                    <a:ext cx="7383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657600" y="3544920"/>
          <a:ext cx="83808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44920"/>
                    <a:ext cx="8380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19720" y="3505320"/>
          <a:ext cx="130968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3505320"/>
                    <a:ext cx="13096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 txBox="1"/>
          <p:nvPr/>
        </p:nvSpPr>
        <p:spPr>
          <a:xfrm>
            <a:off x="2286000" y="4267080"/>
            <a:ext cx="31240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s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73392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3504960"/>
            <a:ext cx="381240" cy="53316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752480" y="2743200"/>
            <a:ext cx="2743200" cy="2743200"/>
            <a:chOff x="1752480" y="2743200"/>
            <a:chExt cx="2743200" cy="2743200"/>
          </a:xfrm>
        </p:grpSpPr>
        <p:sp>
          <p:nvSpPr>
            <p:cNvPr id="460" name=""/>
            <p:cNvSpPr/>
            <p:nvPr/>
          </p:nvSpPr>
          <p:spPr>
            <a:xfrm>
              <a:off x="236196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180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81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076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24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524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2480" y="30481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52480" y="33530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524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2480" y="39625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52480" y="42674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5248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52480" y="4876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52480" y="51818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812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52480" y="426744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380880" y="1752480"/>
          <a:ext cx="19764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19764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 flipV="1">
            <a:off x="3581280" y="2666880"/>
            <a:ext cx="0" cy="289584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Vertical line at x = 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752480" y="2743200"/>
            <a:ext cx="2743200" cy="2743200"/>
            <a:chOff x="1752480" y="2743200"/>
            <a:chExt cx="2743200" cy="2743200"/>
          </a:xfrm>
        </p:grpSpPr>
        <p:sp>
          <p:nvSpPr>
            <p:cNvPr id="484" name=""/>
            <p:cNvSpPr/>
            <p:nvPr/>
          </p:nvSpPr>
          <p:spPr>
            <a:xfrm>
              <a:off x="23623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71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81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91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524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5248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5248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524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5248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5248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5248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5248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5248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180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52480" y="4876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03200" y="1687680"/>
          <a:ext cx="193212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1687680"/>
                    <a:ext cx="19321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1600200" y="3048120"/>
            <a:ext cx="312408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Horizontal line at y = 6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52480" y="2743200"/>
            <a:ext cx="2743200" cy="2743200"/>
            <a:chOff x="1752480" y="2743200"/>
            <a:chExt cx="2743200" cy="2743200"/>
          </a:xfrm>
        </p:grpSpPr>
        <p:sp>
          <p:nvSpPr>
            <p:cNvPr id="508" name=""/>
            <p:cNvSpPr/>
            <p:nvPr/>
          </p:nvSpPr>
          <p:spPr>
            <a:xfrm>
              <a:off x="23623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971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81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1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524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524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248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5248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7524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5248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5248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5248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5248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5248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7180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52480" y="33526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87680"/>
          <a:ext cx="228276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22827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1600200" y="4876920"/>
            <a:ext cx="312408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Horizontal line at y = - 5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752480" y="2743200"/>
            <a:ext cx="2743200" cy="2743200"/>
            <a:chOff x="1752480" y="2743200"/>
            <a:chExt cx="2743200" cy="2743200"/>
          </a:xfrm>
        </p:grpSpPr>
        <p:sp>
          <p:nvSpPr>
            <p:cNvPr id="532" name=""/>
            <p:cNvSpPr/>
            <p:nvPr/>
          </p:nvSpPr>
          <p:spPr>
            <a:xfrm>
              <a:off x="23623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71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81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91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24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524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5248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524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5248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5248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5248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248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97180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52480" y="42670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382680" y="1752480"/>
          <a:ext cx="197460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752480"/>
                    <a:ext cx="19746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3581280" y="2362320"/>
            <a:ext cx="0" cy="34290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Vertical line at x = 2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ying Solutions of a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0666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cide whether the given ordered pair is a solution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3520" y="1981080"/>
                <a:ext cx="5100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395360" y="2743200"/>
                <a:ext cx="3870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"/>
          <p:cNvGraphicFramePr/>
          <p:nvPr/>
        </p:nvGraphicFramePr>
        <p:xfrm>
          <a:off x="1754280" y="2819520"/>
          <a:ext cx="43956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2819520"/>
                    <a:ext cx="439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05320" y="2819520"/>
          <a:ext cx="35244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819520"/>
                    <a:ext cx="352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094200" y="3581280"/>
          <a:ext cx="49212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4200" y="3581280"/>
                    <a:ext cx="49212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57600" y="3544920"/>
          <a:ext cx="83808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44920"/>
                    <a:ext cx="8380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444920" y="3505320"/>
          <a:ext cx="125748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4920" y="3505320"/>
                    <a:ext cx="12574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715000" y="3505320"/>
            <a:ext cx="45720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715000" y="3504960"/>
            <a:ext cx="38088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0" y="4267080"/>
            <a:ext cx="31240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ying Solutions of a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0666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cide whether the given ordered pair is a solution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0320" y="1959120"/>
                <a:ext cx="35164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428920" y="2743200"/>
                <a:ext cx="1803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2743200" y="2819520"/>
          <a:ext cx="35244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352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124080" y="3581280"/>
          <a:ext cx="393840" cy="5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581280"/>
                    <a:ext cx="3938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429000" y="3505320"/>
          <a:ext cx="942840" cy="61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05320"/>
                    <a:ext cx="9428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 txBox="1"/>
          <p:nvPr/>
        </p:nvSpPr>
        <p:spPr>
          <a:xfrm>
            <a:off x="2286000" y="4267080"/>
            <a:ext cx="31240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s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3657600"/>
            <a:ext cx="162000" cy="26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648320" y="3429000"/>
            <a:ext cx="380880" cy="53352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ying Solutions of an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0666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cide whether the given ordered pair is a solution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4920" y="1981080"/>
                <a:ext cx="57164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66680" y="2743200"/>
                <a:ext cx="4087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3274920" y="2819520"/>
          <a:ext cx="7477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2819520"/>
                    <a:ext cx="747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677960" y="2819520"/>
          <a:ext cx="43992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7960" y="2819520"/>
                    <a:ext cx="439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743200" y="3581280"/>
          <a:ext cx="44280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581280"/>
                    <a:ext cx="44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125880" y="3544920"/>
          <a:ext cx="115236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5880" y="3544920"/>
                    <a:ext cx="11523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200480" y="3505320"/>
          <a:ext cx="99540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00480" y="3505320"/>
                    <a:ext cx="995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340240" y="3505320"/>
            <a:ext cx="45720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40240" y="3504960"/>
            <a:ext cx="38124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0" y="4267080"/>
            <a:ext cx="31240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520" y="3048120"/>
            <a:ext cx="2743200" cy="2743200"/>
            <a:chOff x="533520" y="3048120"/>
            <a:chExt cx="2743200" cy="2743200"/>
          </a:xfrm>
        </p:grpSpPr>
        <p:sp>
          <p:nvSpPr>
            <p:cNvPr id="112" name=""/>
            <p:cNvSpPr/>
            <p:nvPr/>
          </p:nvSpPr>
          <p:spPr>
            <a:xfrm>
              <a:off x="1143000" y="30481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2480" y="30481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2320" y="30481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30481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30481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30481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33530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352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39625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3520" y="42674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4876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3520" y="518184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3520" y="54864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2480" y="30481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520" y="365760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a table of values to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64771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752480"/>
          <a:ext cx="272556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27255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371600" y="57150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724280" y="2209680"/>
            <a:ext cx="2590920" cy="4191120"/>
            <a:chOff x="4724280" y="2209680"/>
            <a:chExt cx="2590920" cy="4191120"/>
          </a:xfrm>
        </p:grpSpPr>
        <p:sp>
          <p:nvSpPr>
            <p:cNvPr id="135" name=""/>
            <p:cNvSpPr/>
            <p:nvPr/>
          </p:nvSpPr>
          <p:spPr>
            <a:xfrm>
              <a:off x="4724280" y="2211480"/>
              <a:ext cx="2590920" cy="41893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19920" y="2209680"/>
              <a:ext cx="0" cy="4191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4280" y="29718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220968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4280" y="36576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43434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50292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24280" y="571500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4952880" y="3048120"/>
          <a:ext cx="74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04812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952880" y="3733920"/>
          <a:ext cx="6588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73392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181480" y="4419720"/>
          <a:ext cx="3952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41972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202360" y="5105520"/>
          <a:ext cx="3524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02360" y="510552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213520" y="5791320"/>
          <a:ext cx="44100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3520" y="5791320"/>
                    <a:ext cx="441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315200" y="3048120"/>
          <a:ext cx="144936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3048120"/>
                    <a:ext cx="1449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108840" y="3048120"/>
          <a:ext cx="96660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08840" y="3048120"/>
                    <a:ext cx="9666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315200" y="3733920"/>
          <a:ext cx="145080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15200" y="3733920"/>
                    <a:ext cx="1450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294600" y="3733920"/>
          <a:ext cx="74772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94600" y="373392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620120" y="4419720"/>
          <a:ext cx="114300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0120" y="4419720"/>
                    <a:ext cx="1143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324480" y="4419720"/>
          <a:ext cx="74772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24480" y="441972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7620120" y="5105520"/>
          <a:ext cx="1143000" cy="52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20120" y="5105520"/>
                    <a:ext cx="1143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6337440" y="5105520"/>
          <a:ext cx="66024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337440" y="5105520"/>
                    <a:ext cx="660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620120" y="5791320"/>
          <a:ext cx="114444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20120" y="5791320"/>
                    <a:ext cx="1144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448320" y="5791320"/>
          <a:ext cx="43992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8320" y="5791320"/>
                    <a:ext cx="439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2666520"/>
            <a:ext cx="1371600" cy="38862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3886200"/>
            <a:ext cx="2743200" cy="2743200"/>
            <a:chOff x="533520" y="3886200"/>
            <a:chExt cx="2743200" cy="2743200"/>
          </a:xfrm>
        </p:grpSpPr>
        <p:sp>
          <p:nvSpPr>
            <p:cNvPr id="179" name=""/>
            <p:cNvSpPr/>
            <p:nvPr/>
          </p:nvSpPr>
          <p:spPr>
            <a:xfrm>
              <a:off x="1143000" y="3886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52480" y="3886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886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3886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3886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520" y="3886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4191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520" y="4800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520" y="5105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520" y="5410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5715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6019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520" y="6324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2480" y="3886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520" y="6019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a table of values to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9436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600200"/>
          <a:ext cx="30322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30322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37160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5334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24280" y="2362320"/>
            <a:ext cx="2590920" cy="4190760"/>
            <a:chOff x="4724280" y="2362320"/>
            <a:chExt cx="2590920" cy="4190760"/>
          </a:xfrm>
        </p:grpSpPr>
        <p:sp>
          <p:nvSpPr>
            <p:cNvPr id="202" name=""/>
            <p:cNvSpPr/>
            <p:nvPr/>
          </p:nvSpPr>
          <p:spPr>
            <a:xfrm>
              <a:off x="4724280" y="2363760"/>
              <a:ext cx="2590920" cy="4188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2362320"/>
              <a:ext cx="0" cy="419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31240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4280" y="236232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4280" y="38098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4280" y="44956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24280" y="51814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4952880" y="3200400"/>
          <a:ext cx="74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2004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952880" y="3886200"/>
          <a:ext cx="6588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88620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181480" y="4572000"/>
          <a:ext cx="3952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202360" y="5257800"/>
          <a:ext cx="3524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02360" y="525780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213520" y="5943600"/>
          <a:ext cx="44100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3520" y="5943600"/>
                    <a:ext cx="441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315200" y="3200400"/>
          <a:ext cx="144936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3200400"/>
                    <a:ext cx="14493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394320" y="3200400"/>
          <a:ext cx="3952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94320" y="32004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7335720" y="3886200"/>
          <a:ext cx="140832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35720" y="3886200"/>
                    <a:ext cx="14083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492960" y="3886200"/>
          <a:ext cx="35064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92960" y="3886200"/>
                    <a:ext cx="350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7620120" y="4572000"/>
          <a:ext cx="114300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20120" y="4572000"/>
                    <a:ext cx="1143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478560" y="4572000"/>
          <a:ext cx="43992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78560" y="4572000"/>
                    <a:ext cx="439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40640" y="5257800"/>
          <a:ext cx="1100160" cy="52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40640" y="5257800"/>
                    <a:ext cx="1100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469200" y="5257800"/>
          <a:ext cx="39672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69200" y="5257800"/>
                    <a:ext cx="396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7599240" y="5943600"/>
          <a:ext cx="118764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99240" y="5943600"/>
                    <a:ext cx="1187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448320" y="5943600"/>
          <a:ext cx="439920" cy="5205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8320" y="5943600"/>
                    <a:ext cx="439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33520" y="3886200"/>
            <a:ext cx="2743200" cy="27432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95480" y="2057400"/>
          <a:ext cx="1062000" cy="571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95480" y="2057400"/>
                    <a:ext cx="1062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522440" y="2692440"/>
          <a:ext cx="770040" cy="7207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522440" y="2692440"/>
                    <a:ext cx="770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143000" y="2057400"/>
          <a:ext cx="1062000" cy="5698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2057400"/>
                    <a:ext cx="10620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533520" y="2666880"/>
            <a:ext cx="3471840" cy="18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328840" y="2666880"/>
          <a:ext cx="2017800" cy="5778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328840" y="2666880"/>
                    <a:ext cx="20178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2943360" y="3276720"/>
          <a:ext cx="406440" cy="53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943360" y="3276720"/>
                    <a:ext cx="40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784520" y="3276720"/>
          <a:ext cx="406080" cy="53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784520" y="3276720"/>
                    <a:ext cx="4060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790720" y="3276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648320" y="1676520"/>
          <a:ext cx="1033200" cy="6714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648320" y="1676520"/>
                    <a:ext cx="10332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71760" y="327672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857760" y="3276720"/>
          <a:ext cx="406440" cy="53316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857760" y="3276720"/>
                    <a:ext cx="406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781440" y="3276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562720" y="1676520"/>
          <a:ext cx="517320" cy="5173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62720" y="1676520"/>
                    <a:ext cx="517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1600200"/>
          <a:ext cx="879480" cy="620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943600" y="1600200"/>
                    <a:ext cx="8794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3581280"/>
            <a:ext cx="2743200" cy="2743200"/>
            <a:chOff x="685800" y="3581280"/>
            <a:chExt cx="2743200" cy="2743200"/>
          </a:xfrm>
        </p:grpSpPr>
        <p:sp>
          <p:nvSpPr>
            <p:cNvPr id="270" name=""/>
            <p:cNvSpPr/>
            <p:nvPr/>
          </p:nvSpPr>
          <p:spPr>
            <a:xfrm>
              <a:off x="12952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476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146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240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3581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800" y="38862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41907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" y="48006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" y="51051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" y="5410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" y="5715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6019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04760" y="35812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5800" y="571500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a table of values to 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28600" y="1628640"/>
                <a:ext cx="3733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724280" y="2362320"/>
            <a:ext cx="2590920" cy="4190760"/>
            <a:chOff x="4724280" y="2362320"/>
            <a:chExt cx="2590920" cy="4190760"/>
          </a:xfrm>
        </p:grpSpPr>
        <p:sp>
          <p:nvSpPr>
            <p:cNvPr id="292" name=""/>
            <p:cNvSpPr/>
            <p:nvPr/>
          </p:nvSpPr>
          <p:spPr>
            <a:xfrm>
              <a:off x="4724280" y="2363760"/>
              <a:ext cx="2590920" cy="4188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9920" y="2362320"/>
              <a:ext cx="0" cy="419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24280" y="31240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4280" y="236232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4280" y="38098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24280" y="44956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24280" y="51814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0" name=""/>
          <p:cNvGraphicFramePr/>
          <p:nvPr/>
        </p:nvGraphicFramePr>
        <p:xfrm>
          <a:off x="4952880" y="3200400"/>
          <a:ext cx="746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2004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952880" y="3886200"/>
          <a:ext cx="65880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88620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5181480" y="4572000"/>
          <a:ext cx="3952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202360" y="5257800"/>
          <a:ext cx="3524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02360" y="525780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213520" y="5943600"/>
          <a:ext cx="44100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3520" y="5943600"/>
                    <a:ext cx="441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7696080" y="3200400"/>
          <a:ext cx="109872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96080" y="3200400"/>
                    <a:ext cx="1098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400800" y="3200400"/>
          <a:ext cx="43956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200400"/>
                    <a:ext cx="4395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696080" y="3886200"/>
          <a:ext cx="110016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3886200"/>
                    <a:ext cx="1100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6470640" y="3886200"/>
          <a:ext cx="39528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70640" y="38862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696080" y="4572000"/>
          <a:ext cx="110016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96080" y="4572000"/>
                    <a:ext cx="11001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500880" y="4572000"/>
          <a:ext cx="39528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008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7486560" y="5257800"/>
          <a:ext cx="1408320" cy="520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486560" y="5257800"/>
                    <a:ext cx="14083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6469200" y="5257800"/>
          <a:ext cx="396720" cy="52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69200" y="5257800"/>
                    <a:ext cx="396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7489800" y="5943600"/>
          <a:ext cx="1407960" cy="520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489800" y="5943600"/>
                    <a:ext cx="1407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6316560" y="5943600"/>
          <a:ext cx="703440" cy="520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316560" y="5943600"/>
                    <a:ext cx="703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13372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64771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2743200"/>
            <a:ext cx="1371600" cy="41148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62120" y="2362320"/>
          <a:ext cx="480960" cy="6238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62120" y="2362320"/>
                    <a:ext cx="4809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219320" y="2286000"/>
          <a:ext cx="1536480" cy="577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219320" y="2286000"/>
                    <a:ext cx="15364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666880" y="2286000"/>
          <a:ext cx="768600" cy="577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66880" y="2286000"/>
                    <a:ext cx="7686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3581280"/>
            <a:ext cx="2743200" cy="2743200"/>
            <a:chOff x="685800" y="3581280"/>
            <a:chExt cx="2743200" cy="2743200"/>
          </a:xfrm>
        </p:grpSpPr>
        <p:sp>
          <p:nvSpPr>
            <p:cNvPr id="342" name=""/>
            <p:cNvSpPr/>
            <p:nvPr/>
          </p:nvSpPr>
          <p:spPr>
            <a:xfrm>
              <a:off x="12952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476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146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240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00" y="3581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5800" y="38862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800" y="41907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580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5800" y="48006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5800" y="51051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5410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00" y="571500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5800" y="601956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04760" y="35812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571500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09480" y="1676520"/>
          <a:ext cx="17128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17128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724280" y="2362320"/>
            <a:ext cx="2590920" cy="4190760"/>
            <a:chOff x="4724280" y="2362320"/>
            <a:chExt cx="2590920" cy="4190760"/>
          </a:xfrm>
        </p:grpSpPr>
        <p:sp>
          <p:nvSpPr>
            <p:cNvPr id="364" name=""/>
            <p:cNvSpPr/>
            <p:nvPr/>
          </p:nvSpPr>
          <p:spPr>
            <a:xfrm>
              <a:off x="4724280" y="2363760"/>
              <a:ext cx="2590920" cy="4188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2362320"/>
              <a:ext cx="0" cy="419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24280" y="31240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24280" y="236232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38098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24280" y="44956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24280" y="51814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72" name=""/>
          <p:cNvGraphicFramePr/>
          <p:nvPr/>
        </p:nvGraphicFramePr>
        <p:xfrm>
          <a:off x="4952880" y="3200400"/>
          <a:ext cx="74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2004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952880" y="3886200"/>
          <a:ext cx="6588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88620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181480" y="4572000"/>
          <a:ext cx="3952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202360" y="5257800"/>
          <a:ext cx="3524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02360" y="525780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213520" y="5943600"/>
          <a:ext cx="44100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3520" y="5943600"/>
                    <a:ext cx="441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423120" y="3200400"/>
          <a:ext cx="39528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2004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6470640" y="3886200"/>
          <a:ext cx="39528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70640" y="38862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6500880" y="4572000"/>
          <a:ext cx="39528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008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6469200" y="5257800"/>
          <a:ext cx="39672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69200" y="5257800"/>
                    <a:ext cx="396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6470640" y="5943600"/>
          <a:ext cx="39528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0640" y="59436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213372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56386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56386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71500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This means the y-value is always 0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228600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 = b</a:t>
            </a:r>
            <a:endParaRPr b="0" lang="en-US" sz="24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rizontal Lines</a:t>
            </a:r>
            <a:endParaRPr b="0" lang="en-US" sz="24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aphing a Linear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85800" y="3581280"/>
            <a:ext cx="2743200" cy="2743200"/>
            <a:chOff x="685800" y="3581280"/>
            <a:chExt cx="2743200" cy="2743200"/>
          </a:xfrm>
        </p:grpSpPr>
        <p:sp>
          <p:nvSpPr>
            <p:cNvPr id="401" name=""/>
            <p:cNvSpPr/>
            <p:nvPr/>
          </p:nvSpPr>
          <p:spPr>
            <a:xfrm>
              <a:off x="12952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5120" y="35812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1460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2408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5800" y="35812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00" y="3581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3886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5800" y="4191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4495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4800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5800" y="5105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800" y="5410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" y="5715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5800" y="6019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14600" y="35812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5800" y="51055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Graph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34880" y="1741320"/>
          <a:ext cx="20638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741320"/>
                    <a:ext cx="2063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219320" y="5638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50292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724280" y="2362320"/>
            <a:ext cx="2590920" cy="4190760"/>
            <a:chOff x="4724280" y="2362320"/>
            <a:chExt cx="2590920" cy="4190760"/>
          </a:xfrm>
        </p:grpSpPr>
        <p:sp>
          <p:nvSpPr>
            <p:cNvPr id="423" name=""/>
            <p:cNvSpPr/>
            <p:nvPr/>
          </p:nvSpPr>
          <p:spPr>
            <a:xfrm>
              <a:off x="4724280" y="2363760"/>
              <a:ext cx="2590920" cy="418896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9920" y="2362320"/>
              <a:ext cx="0" cy="4190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24280" y="31240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24280" y="2362320"/>
              <a:ext cx="25909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x        y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24280" y="38098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24280" y="44956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24280" y="51814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24280" y="5867280"/>
              <a:ext cx="259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1" name=""/>
          <p:cNvGraphicFramePr/>
          <p:nvPr/>
        </p:nvGraphicFramePr>
        <p:xfrm>
          <a:off x="4952880" y="3200400"/>
          <a:ext cx="746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2004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4910040" y="3886200"/>
          <a:ext cx="7462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0040" y="3886200"/>
                    <a:ext cx="746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4952880" y="4572000"/>
          <a:ext cx="74772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5720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5005440" y="5257800"/>
          <a:ext cx="74772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5440" y="52578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4952880" y="5943600"/>
          <a:ext cx="74952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5943600"/>
                    <a:ext cx="7495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6246720" y="3200400"/>
          <a:ext cx="74772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6720" y="3200400"/>
                    <a:ext cx="747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248520" y="3886200"/>
          <a:ext cx="658800" cy="52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3886200"/>
                    <a:ext cx="6588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6500880" y="4572000"/>
          <a:ext cx="39528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00880" y="4572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553080" y="5257800"/>
          <a:ext cx="352440" cy="52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257800"/>
                    <a:ext cx="3524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6553080" y="5943600"/>
          <a:ext cx="439920" cy="520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53080" y="5943600"/>
                    <a:ext cx="439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219320" y="47242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44197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9320" y="5334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295280" y="3504960"/>
            <a:ext cx="0" cy="28954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90920" y="1676520"/>
            <a:ext cx="6095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6633"/>
                </a:solidFill>
                <a:latin typeface="Times New Roman"/>
              </a:rPr>
              <a:t>This means the x-value is always -4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28600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 = a</a:t>
            </a:r>
            <a:endParaRPr b="0" lang="en-US" sz="24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Vertical Lines</a:t>
            </a:r>
            <a:endParaRPr b="0" lang="en-US" sz="24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09-28T11:54:25Z</dcterms:modified>
  <cp:revision>278</cp:revision>
  <dc:subject/>
  <dc:title>No Slide Title</dc:title>
</cp:coreProperties>
</file>